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1.gif" ContentType="image/gif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35CC-F3CE-4FD1-B905-5D4B1A922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A73A-61E6-4B48-A58B-255DA3DC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CEE-701A-4141-A148-3E0ADAD1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1F36E-B52F-41AD-B280-5C33F53C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BD515-F0CB-49E0-B174-4EA11936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3E3E8-1CD7-41AD-9D62-989E638D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15F66-405C-4183-9C67-922E0376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B22E9-3859-4BC5-99EE-4F0A34AD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CE910-CB42-4F13-9DBB-CA06DAFB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9C46D-726C-421D-ABD9-C2F2E39B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96E0A-D436-40A9-BBFA-32DBEFC2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E1A6E-7633-488A-9275-4A5DA25A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6B552-B18E-4139-B168-45C1E2E0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8140-FA5B-483E-829A-DC846577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FC3D3-9871-4A3D-8958-C33AED09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D4E5F-B1C6-4A01-9785-2E79B2A8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75419-B5C3-4FD7-A1BE-89D813A6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90235-B354-4A4B-B81F-F2255A1D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92C8F-979E-4AFB-9A58-727C6095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EDBA9-D8BE-4C9A-98A9-7CF12209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B9E50-BC85-4B3D-B45A-072A765A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CF07B-E670-4792-BC36-1BC7D076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3EBDD-8880-4C61-976C-0A7F303D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2ADDD-6D68-493C-A411-F183F037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4FE7-FFA6-40D4-8927-5AEF31F7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3F678-CD48-4909-88A6-5FB7398A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2BF2D-795D-43FF-9642-0723A9F1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72B52-EB7B-40F3-A645-444328C2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A15B8-779F-42BE-A43D-51E8A9DB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FB10E-A7D9-41A0-B8D5-F7D424AD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CF839-951D-4620-B7BB-F5A9B051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60E9F-77D1-4A0C-A482-6B824EE7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4E0EF-2DE2-481A-B6C4-7AD3EE56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EB275-DE4F-4341-9672-5ABFA84D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DFC40-5B75-417A-8C52-C764C6DD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6704-5CEC-453C-A6DD-9B58C8C2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A4C34-E5DF-41E3-AF33-50A93115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6AACC-D1F9-4BFB-88C1-E3B5C662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D4CF0-F821-45E1-B95D-99180225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B82DC-8152-490C-90FC-25DECAD9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8BD65-2CD4-4ABF-9DDA-1A988366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727B4-D377-4991-AE64-7B3C1051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1BABA-D4D6-488C-926D-0EEA5E9F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C4D24-CAE1-46B9-9758-D6F12EE5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18408-CA39-4957-9E2A-631F5ACB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E7BCA-E3D1-4A0B-81F6-B309C9A5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E731-4162-4ACE-B583-DA043C08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5D955-D362-4232-8572-5C9762A3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EFAF3-5E05-43E6-887A-7192F950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1B0F9-439B-4AD8-A4BD-7FD83F70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DB2B6-56B9-4E9B-A2C3-9E9A9ACD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8418C-D8C6-4FD9-B431-3F46F6A4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54AC7-4594-4B7E-9F89-8016BE77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1E73F-7F4A-4C33-8859-AF581F00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C8574-F29D-4D29-9286-86131578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86A728-C79A-4DE6-B555-F3E12CCD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511F7-CDA7-4EA4-A02D-6A2D8A79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B23F-CFE5-4F72-87B0-8BDCD582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4D16F9-39A6-4ED0-9DDC-365DF7B8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1CCC81-57A5-41E7-8C31-2B2BE3E0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529BE9-574E-4C1E-9B7D-C5C0FC36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F06E62-8EAE-4327-B311-5CF1ACEE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FDA9C-633C-4356-A806-773224DC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A8440-1489-431F-B37B-0437FD47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211C0-397E-4C56-AB59-A195B9BB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A5BF-B811-415C-96D6-C5C270E9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0229-BF59-4C2A-A510-3801BB4A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7BF2-3947-4159-B3CE-523BB224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950E-2972-4B60-8339-8A202A10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84E8-C904-4C04-86D0-8CDABFED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710E-9CF0-47E9-9B1B-633F9C71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1527-0846-4D1A-B9E3-0BFC97A0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42C9-B5BD-44C1-9D05-FE6424C7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6553-05F7-46A2-9449-55617370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459C-6DA7-4A56-8C0F-6DC87919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6C108-FB47-44F6-8D18-EE2E5DA1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C43ED-9CE2-4017-B2B4-10E655C4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3A423-F9B3-47FC-BF8E-151E2839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FE176-1C60-4643-9AF3-78462F1F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E34E8-130C-4A1C-BB1B-3C430FF8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CB65-1C1C-4927-BEF9-D56C839D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82716-9ABF-4673-8BFA-8ACB709F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55963-A681-4357-A4E1-CD2439A1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6EC87-13F2-484E-8300-0285F1CF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53E26-DA02-4DD9-96AC-B4EB9903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CD2C7-8282-4639-807F-96BE5292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96727-6FD3-4EC3-BE4D-9ECA0969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1FE8A-A4D3-4CC3-A50C-7DE18236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A0D81-49D1-4858-9736-091C8235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D6174-1DE7-4557-A28F-3EB70A23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36414-5095-4544-BD11-885832FB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D41F-B69A-49DB-9A83-FD8FFD71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92F77-9FF5-4DB5-9979-6AF568AD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ABD3E-DCDE-41DA-B000-1D4817FF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858BB-03AC-4137-BE4D-1AD83C6B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BBEE9-D419-4912-859C-02F962E5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34DDB-148B-4719-965A-DF8B14E3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6F276-BC4F-4DEA-B84E-A80539B8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C6DE1-32DF-4986-8F11-0DCB9CD8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6CC73-BF4E-41BB-ACB0-EAA9BEDA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B38B6-0085-49C9-B176-1EF6A616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89F90-4991-49D0-AAFC-5A4F4039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6A0C-624E-462A-8BFF-5A395CA0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71479-4D70-4F9C-A1FE-1074BDE3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14629-1C88-415C-B393-1E6D232D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349F9-17D4-4C06-B622-D569BF40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5E4CF-F7DA-40C8-AA81-8F702A33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DC0A7-FC7E-4659-84F3-FA10FAA4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62E9F-97B4-46DF-8E58-648C1279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C45C0-EA5C-412D-BEE1-773A5A68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58589-23C0-45CA-B85E-D51B1EC1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FE7B5-FE21-4E32-A679-C2CA7969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3B831-5186-42CA-8A37-BE26722B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D606-7B3D-4A0B-A5AE-494C800E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0FC79-CB4A-4000-AE5C-89C53C7A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FB7DD-A8ED-411B-838C-3FF5B0EE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AD7DB-BC4C-4CF7-BDB0-5E6DF590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BE8E0-AC3D-424A-9A48-DEED5C27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5494C-D9F0-405D-8047-267059E6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C09A7-A6A4-49FD-85EE-7793E23D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6F12A-E9B5-4B21-BBCF-D5B29644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0373F-91F5-4EFD-B60C-5AE53CBA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A072F-1DC1-46BF-BEFA-D51DA197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8DAAB-049F-47C1-837D-46ADDA9D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3028-3D7D-4A8F-BEAD-5D6026E2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CC5A9-AA47-4867-B756-56C33F64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E3630-FCD5-4621-A73D-EF8E8EA0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6348E-5C09-4029-992B-AB2258DC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56EB1-825F-4980-B06C-442DB855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912A8-976A-40A6-800A-79EC96BC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A81DF-E26E-48D0-94D6-C884A6D6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9FFEE-7D8B-4EA1-BFBE-4CCA0605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D31D2-CFC6-4893-AF79-43315826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57DA4-6C0F-4F83-89E4-4FEF88D3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C389A-D0C3-42F6-9F3B-00732F32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50C-73E6-4D13-B8A2-9ADD009C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31D70-242B-48C9-BD75-8F5118E2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68222-40E9-4D45-BC18-3DBAE952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73646-D297-4591-A6BE-CE0092BD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75FA9-40C6-44ED-8448-8EC23516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EE015-9990-47B9-ABC6-D42EFB8B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107C0-8768-4D73-AF7D-DB7424C9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47833-CF2E-4413-9F8F-E86553B3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8E643-39D1-4554-B7A0-FAAA237B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D8780-A24B-4BCF-9689-8BC941C0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4FB2B-069C-4430-BB0C-92196B75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D384-4C67-468F-A141-3A5FB3F4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1DFC7-4BAF-41CE-B2ED-140AC714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8FF3C-CAC1-4505-8113-06D7122B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2837F-684C-4F0D-9F73-DBECEF32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349DF-A7D5-40A2-A132-D22D85C4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D486D-126E-4304-987D-A29F6840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E8EAE-05B6-4890-AAB1-4F369383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419CF-EA07-4B03-880B-031CBC6D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48013-85B1-4D13-B6BE-81590469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80AC3-4E28-47CB-81A2-706CD1B5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D8945-96FC-4EFF-8999-5A99094E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40D8-BF20-41A5-9C6A-62752FF67B9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8C92-2AF8-447D-9238-AA460FA8A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C10E-1170-4EA6-89D6-14C47F49D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3877-943E-4C04-9799-83F90262DAA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BAF1-9759-426D-AB9E-74CE7A33D1B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65ED-021B-48AA-B52A-CED947F71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82D7-D21C-4043-BDB6-2D9FAA515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34A3-A898-448F-B6AD-7221241DECB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2C90-8386-48C2-B9A0-E6442112E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7446-9581-472A-93BF-A1ECFC37E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C419-AAEB-4427-A3A8-2BA6B777F3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99C0-E27F-4C9B-A530-D2F97576B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2702-BC91-49EB-8C00-409B8958B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Quick Review -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eiosi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division of cells which results in the production of gamet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Gamete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lso known as sex cells, germ cells, or spores; cells of sexual reproduction, which contain only half the chromosomes of a normal cell highered.mcgraw-hill.com/sites/0072549238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tudent_view0/glossary.htm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Chromosomes -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Threadlike bodies found in the nucleus, or center part, of a cell that carry the information of hered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www.sharedexperience.org/Glossary.lasso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a female and male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Broadway"/>
              </a:rPr>
              <a:t>fertilization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- the combining of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Produces </a:t>
            </a:r>
            <a:r>
              <a:rPr b="0" i="1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genetic diversity</a:t>
            </a: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 - variation among and within species that is attributable to differences in hereditary material.</a:t>
            </a:r>
            <a:br>
              <a:rPr sz="3000"/>
            </a:br>
            <a:r>
              <a:rPr b="0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www.for.gov.bc.ca/hfd/library/documents/glossary/G.htm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Picture 4" descr="big_nose"/>
          <p:cNvPicPr/>
          <p:nvPr/>
        </p:nvPicPr>
        <p:blipFill>
          <a:blip r:embed="rId1"/>
          <a:stretch/>
        </p:blipFill>
        <p:spPr>
          <a:xfrm>
            <a:off x="3429000" y="3276720"/>
            <a:ext cx="1066680" cy="103644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bleak landscape"/>
          <p:cNvPicPr/>
          <p:nvPr/>
        </p:nvPicPr>
        <p:blipFill>
          <a:blip r:embed="rId1">
            <a:lum contrast="18000"/>
            <a:alphaModFix am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ossible Rea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EXTINCTION!!!!</a:t>
            </a: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	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ut, my sister does have a big nose.  So the human species is saved.  Kinda makes big noses pretty attractive now, doesn’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big nose girl"/>
          <p:cNvPicPr/>
          <p:nvPr/>
        </p:nvPicPr>
        <p:blipFill>
          <a:blip r:embed="rId1"/>
          <a:stretch/>
        </p:blipFill>
        <p:spPr>
          <a:xfrm>
            <a:off x="2286000" y="3657600"/>
            <a:ext cx="3962520" cy="2963880"/>
          </a:xfrm>
          <a:prstGeom prst="rect">
            <a:avLst/>
          </a:prstGeom>
          <a:ln w="0">
            <a:noFill/>
          </a:ln>
        </p:spPr>
      </p:pic>
      <p:sp>
        <p:nvSpPr>
          <p:cNvPr id="5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roadway"/>
              </a:rPr>
              <a:t>So what can we conclude about Sexual Reproduction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43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it produces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iversity ensures survival of a species in an environment tha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Sexual Rep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cess in which two cells, termed gametes, come together to form one </a:t>
            </a:r>
            <a:r>
              <a:rPr b="0" lang="en-US" sz="1800" spc="-1" strike="noStrike">
                <a:solidFill>
                  <a:srgbClr val="0066ff"/>
                </a:solidFill>
                <a:latin typeface="Broadway"/>
              </a:rPr>
              <a:t>fertilized</a:t>
            </a: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 cell that contains genetic information from both parental cells.   ucbiotech.org/glossary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duction of offspring whose genetic constitution is a mixture of that of two potentially genetically different gamete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evolution.unibe.ch/teaching/GlossarE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Q:  How many of you have more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than one pa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man_woman_walking_holding_hands_lg_wm"/>
          <p:cNvPicPr/>
          <p:nvPr/>
        </p:nvPicPr>
        <p:blipFill>
          <a:blip r:embed="rId1"/>
          <a:stretch/>
        </p:blipFill>
        <p:spPr>
          <a:xfrm>
            <a:off x="2895480" y="4114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5"/>
          <p:cNvSpPr/>
          <p:nvPr/>
        </p:nvSpPr>
        <p:spPr>
          <a:xfrm>
            <a:off x="457200" y="2286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en, everyone in this room is a product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of 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6242760" y="636264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nimationFacto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a female and male parent (i.e. it takes two to tan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Q:  Why do we need more than 1 pa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6" descr="MCj03981910000[1]"/>
          <p:cNvPicPr/>
          <p:nvPr/>
        </p:nvPicPr>
        <p:blipFill>
          <a:blip r:embed="rId1"/>
          <a:stretch/>
        </p:blipFill>
        <p:spPr>
          <a:xfrm>
            <a:off x="1143000" y="3809880"/>
            <a:ext cx="1558800" cy="1814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8" descr="MCj03981910000[1]"/>
          <p:cNvPicPr/>
          <p:nvPr/>
        </p:nvPicPr>
        <p:blipFill>
          <a:blip r:embed="rId2"/>
          <a:stretch/>
        </p:blipFill>
        <p:spPr>
          <a:xfrm>
            <a:off x="4724280" y="3809880"/>
            <a:ext cx="1559160" cy="181476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9"/>
          <p:cNvSpPr/>
          <p:nvPr/>
        </p:nvSpPr>
        <p:spPr>
          <a:xfrm>
            <a:off x="533520" y="4419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½                   +      ½                 </a:t>
            </a:r>
            <a:r>
              <a:rPr b="1" lang="en-US" sz="3600" spc="-1" strike="noStrike">
                <a:solidFill>
                  <a:srgbClr val="000000"/>
                </a:solidFill>
                <a:latin typeface="Broadway"/>
              </a:rPr>
              <a:t>=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Requires a female and male par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So, by what we’ve discussed, in sexual reproduction “mom” donates half, and “dad” donates half.  How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4" descr="Fertilization"/>
          <p:cNvPicPr/>
          <p:nvPr/>
        </p:nvPicPr>
        <p:blipFill>
          <a:blip r:embed="rId1"/>
          <a:stretch/>
        </p:blipFill>
        <p:spPr>
          <a:xfrm>
            <a:off x="2666880" y="2590920"/>
            <a:ext cx="3276720" cy="2895480"/>
          </a:xfrm>
          <a:prstGeom prst="rect">
            <a:avLst/>
          </a:prstGeom>
          <a:ln w="0">
            <a:noFill/>
          </a:ln>
        </p:spPr>
      </p:pic>
      <p:sp>
        <p:nvSpPr>
          <p:cNvPr id="5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equires a female and ma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</a:t>
            </a:r>
            <a:r>
              <a:rPr b="0" i="1" lang="en-US" sz="3200" spc="-1" strike="noStrike" u="sng">
                <a:solidFill>
                  <a:srgbClr val="0066ff"/>
                </a:solidFill>
                <a:uFillTx/>
                <a:latin typeface="Broadway"/>
              </a:rPr>
              <a:t>fertilization</a:t>
            </a: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 - the combining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7" descr="dancing baby 2"/>
          <p:cNvPicPr/>
          <p:nvPr/>
        </p:nvPicPr>
        <p:blipFill>
          <a:blip r:embed="rId1"/>
          <a:stretch/>
        </p:blipFill>
        <p:spPr>
          <a:xfrm>
            <a:off x="685800" y="2666880"/>
            <a:ext cx="2095560" cy="1905120"/>
          </a:xfrm>
          <a:prstGeom prst="rect">
            <a:avLst/>
          </a:prstGeom>
          <a:ln w="0">
            <a:noFill/>
          </a:ln>
        </p:spPr>
      </p:pic>
      <p:pic>
        <p:nvPicPr>
          <p:cNvPr id="570" name="disco baby music.mid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disco baby"/>
          <p:cNvPicPr/>
          <p:nvPr/>
        </p:nvPicPr>
        <p:blipFill>
          <a:blip r:embed="rId3"/>
          <a:stretch/>
        </p:blipFill>
        <p:spPr>
          <a:xfrm>
            <a:off x="6019920" y="251460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10"/>
          <p:cNvSpPr/>
          <p:nvPr/>
        </p:nvSpPr>
        <p:spPr>
          <a:xfrm>
            <a:off x="898560" y="4305240"/>
            <a:ext cx="75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ake a moment to write down one trait that is different and in what way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s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228600" y="63626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*Dancing baby graphics and music courtesy of MegaBaby.co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LEGION</cp:lastModifiedBy>
  <dcterms:modified xsi:type="dcterms:W3CDTF">2016-12-07T08:34:26Z</dcterms:modified>
  <cp:revision>15</cp:revision>
  <dc:subject/>
  <dc:title>Sexual Reproduction</dc:title>
</cp:coreProperties>
</file>